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7FEE-FA91-4ED8-9A72-0382993D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E50A-ABCF-43F4-AE0C-4A5B8A10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EDF2-32D3-48D1-B2EE-74508B76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12DE-F401-4E13-85A2-AE2B53E1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75E9-BC8F-433B-B237-2716935C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5596-1231-4B24-ABE2-B7E66C38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020C-F2E9-41C6-9EF8-85158DA8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0C48-2C4B-4A68-931B-672A184C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A241-3D36-49AB-88E4-286929F9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54C3-BF99-42B5-9B16-9CBA7208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4354-A954-4924-82FD-E04B44F7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1BA6-64F3-494A-AD66-AD8EE0DA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6B2F-A7EE-4960-A850-4E353D43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83C7-C835-4707-A0FD-2B8465CD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EC65-813E-4D2D-BE63-611B7C39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3920-9503-48DD-99D4-5471D9B5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6E3A-4CED-4937-B162-5C71115EE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613A-74DB-4586-B7DF-1A0607F0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CA2F-1930-4668-ABCC-09294C04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0E48-0C4C-4536-ADD1-FF978ED7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A246-57D8-4013-859F-6B3FCB9E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001F-E86C-4AA2-A15F-AE8FF616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4D17-6CF1-4F23-B9D1-CA629D83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C462-4A44-4D8A-8C52-7E7166D6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F8C5-57A9-46BB-8AF7-5A830AF89F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8C53-2F98-4573-94F3-E7E2E9E716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itesatlas.com/Atlas/PolAtlas/polnav.nv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-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eograph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4" descr="polna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600200" y="1676520"/>
            <a:ext cx="107442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geographic feature had the greatest influence on the development of ancient civilization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nse fores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untain pas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mooth coastli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iver valley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sopotam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Picture 7" descr="map01mes"/>
          <p:cNvPicPr/>
          <p:nvPr/>
        </p:nvPicPr>
        <p:blipFill>
          <a:blip r:embed="rId1"/>
          <a:stretch/>
        </p:blipFill>
        <p:spPr>
          <a:xfrm>
            <a:off x="609480" y="1600200"/>
            <a:ext cx="7848720" cy="5022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87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 for Mesopotam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rtile Crescent – two rivers:  Tigris and Euphra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lood erratically – need to build dams and dyk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sy to navigate rivers – lots of invasions (Akkadians, Babylonians, Assyrian, Persians….), cultural diffusion, political instabil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1" name="Picture 5" descr="map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s for Ch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THNOCENTRISM – caused by geographic barriers – Gobi Desert, Tien Shen Mts., Himalayas, Pacific Oce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ivers – Yellow (Huange-He) “River of Sorrow” – heavy silt, cut deep into mts; Yangtze – both rivers flow west to ea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aptations – Silk Road, Great Wall, Grand Canal, terrace farming along Yello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s on Ind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b-continent of As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ninsu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so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dus River – navigable (similar to Tigri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ndu-Kush mts and Himalayas protect and isol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ccan plateau – center – inhospitabl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st live near Indus/Ganges (sacred to Hinduism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ts of trade in Indian Oce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ailroad handy to unite large landma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India, Bangladesh and much of Southeast Asia, agricultural productivity is most affected by th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asonal monso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navigable riv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merous deser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ld clima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ee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2428920" y="1712880"/>
            <a:ext cx="428616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s on Gree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chipelag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lis/Poleis will be divided by mountai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eat natural harbors for fishing and trade; strength of military is triremes for Athens not hopli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ew natural rivers/springs – need to import food – colon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olcanic area – angry gods (land and sea – Zeus/Poseid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ich volcanic soil good for olives and grap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68680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ich was one cause of the development of many small independent city-states in ancient Greec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eece and Rome were often at W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mountainous terrain of Greece resulted in widely scattered settlem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litary leaders found small Greek settlements easy to contr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Greek people had many different languages and relig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man Empi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7" name="Picture 5" descr="Map of the Roman Empire at its height"/>
          <p:cNvPicPr/>
          <p:nvPr/>
        </p:nvPicPr>
        <p:blipFill>
          <a:blip r:embed="rId1"/>
          <a:stretch/>
        </p:blipFill>
        <p:spPr>
          <a:xfrm>
            <a:off x="1371600" y="1828800"/>
            <a:ext cx="67816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s for Roman Empi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aly is Peninsu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panded over three continents around Mediterranean Sea – several wars such as Punic (Carthage fighting over Sicily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 large – Roman legions need to build roads, aqueducts, bridges, wal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o large – Diocletian will divide, later easily invaded by Huns, et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audi Arab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ninsu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abian Desert – will need camels to cross to oases (fleet of the desert), leads to Bedouin (nomadic) lif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cess to Red Sea, Arabian Sea and Persian Gulf for trade – trade will be key (Mecca located centrally on Red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ersection of 3 continents – Africa, Asia, and Europ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ACTS OF 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MOUNTA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DIVIDE PEOPLE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 creates cultural diversity (Andes Mts for Incas, Greece) even isolation (Chin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PROTECTS PEOP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Alps for Italy, Himalayas for China and India, Andes for In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DIFFICULT TO FARM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 have to introduce </a:t>
            </a: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terrace farming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 Japan, Incan, Yellow River (Chin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ACTS OF 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RIV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UNITES PEOPLE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 unifies cultures, ease of communication, increases tra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HELPS FARMING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 creates fertile soils (early river civs – Nile (Egypt), Mesopotamia, Indus, and Yellow (China), may need to build dams/dykes/irrig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SACR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Ganges (Hindu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ACTS OF 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DESER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DIVIDES PEOPLE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 hard to cross, creates cultural diversity and isolation (Sahara in Afric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LACK OF RESOURCES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 no food can cause famines, need for tra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ACTS OF 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Verdana"/>
              </a:rPr>
              <a:t>MONSOON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India, China, Indonesia need rains to make food grow – if drought – famine, if floods – famine (build houses on stilts to protect from floods) // monsoon winds also help sailboats to travel Indian Oce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Verdana"/>
              </a:rPr>
              <a:t>COL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Russian steppes frozen (permafrost) – can not farm, need special houses, need access to warm water por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ther Essa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has a region’s geography shaped its histor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has man adapted his environment to shape his need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88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ypes of Map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4" name="Picture 5" descr="http://www.myteacherpages.com/webpages/TTravis/imageGallery/map%20physical.gif"/>
          <p:cNvPicPr/>
          <p:nvPr/>
        </p:nvPicPr>
        <p:blipFill>
          <a:blip r:embed="rId1"/>
          <a:stretch/>
        </p:blipFill>
        <p:spPr>
          <a:xfrm>
            <a:off x="297000" y="838080"/>
            <a:ext cx="2847960" cy="2819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http://www.myteacherpages.com/webpages/TTravis/imageGallery/map%20political%202.jpg"/>
          <p:cNvPicPr/>
          <p:nvPr/>
        </p:nvPicPr>
        <p:blipFill>
          <a:blip r:embed="rId2"/>
          <a:stretch/>
        </p:blipFill>
        <p:spPr>
          <a:xfrm>
            <a:off x="3124080" y="3859200"/>
            <a:ext cx="2305080" cy="2743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http://i.imgur.com/um1EnGN.png"/>
          <p:cNvPicPr/>
          <p:nvPr/>
        </p:nvPicPr>
        <p:blipFill>
          <a:blip r:embed="rId3"/>
          <a:stretch/>
        </p:blipFill>
        <p:spPr>
          <a:xfrm>
            <a:off x="4381560" y="1501920"/>
            <a:ext cx="4762440" cy="24876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"/>
          <p:cNvSpPr/>
          <p:nvPr/>
        </p:nvSpPr>
        <p:spPr>
          <a:xfrm>
            <a:off x="317520" y="3859200"/>
            <a:ext cx="20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Physical/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opograph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1905120" y="588312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Politic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6172200" y="40132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artograph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rms to Kno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ater:  Oceans (Atlantic, Indian, Pacific), Seas (Mediterranean, Black, Red, Arabian), Rivers (Nile, Tigris/Euphrates, Indus, Yellow), Strai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nd:  Mountains (Himalayas, Alps) Plateaus (Deccan) Deserts (Sahara, Lybian, Nubian, Gobi, Arabian) Peninsulas (Italy, India, Saudi Arabia), Archipelago (Greece, Japa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difications – terraces (Yellow), roads (Silk, Roman legions, Persians), walls (Great Wall, Hadrian), irrigation (aqueducts), canals (Grand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4343040"/>
            <a:ext cx="4114800" cy="17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ich letter identifies the peninsula that is home to Mecca, the religious center of Islam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1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3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2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4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1447920" y="152280"/>
            <a:ext cx="6291000" cy="40863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4572000" y="4495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ere did Asoka erect the Sacred Pillars or his Edic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1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3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2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4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geographic similarity between Italy and India is that both of these countries are locat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1) on peninsul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2) on archipelag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3) between two ocea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4) south of the equa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98108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gyp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Picture 5" descr="delta"/>
          <p:cNvPicPr/>
          <p:nvPr/>
        </p:nvPicPr>
        <p:blipFill>
          <a:blip r:embed="rId1"/>
          <a:stretch/>
        </p:blipFill>
        <p:spPr>
          <a:xfrm>
            <a:off x="685800" y="2362320"/>
            <a:ext cx="4114800" cy="3800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egyptmap"/>
          <p:cNvPicPr/>
          <p:nvPr/>
        </p:nvPicPr>
        <p:blipFill>
          <a:blip r:embed="rId2"/>
          <a:stretch/>
        </p:blipFill>
        <p:spPr>
          <a:xfrm>
            <a:off x="5867280" y="533520"/>
            <a:ext cx="268920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s for Essay on Egyp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erts – “Red Lands” – Nubian, Libyan, and Saha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ile River – “Black Lands” surround w/silt; floods annually – need to build irrigation, has cataracts (waterfalls), delta (tributaries protec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mpact – protects, stability of dynasties, need for strong central authority, culture based on Nile “Land of Living” vs. “Land of Dead”, architecture of sandstone, papyrus for books; build Aswan High Dam (no oil); Suez Canal built to capitalize on strategic location btw Mediterranean and Red se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1:07:03Z</dcterms:created>
  <dc:creator>Teacher</dc:creator>
  <dc:description/>
  <dc:language>en-US</dc:language>
  <cp:lastModifiedBy>Windows User</cp:lastModifiedBy>
  <dcterms:modified xsi:type="dcterms:W3CDTF">2014-01-23T21:04:47Z</dcterms:modified>
  <cp:revision>31</cp:revision>
  <dc:subject/>
  <dc:title>Geograph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